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2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7BF5-8FDE-4E02-9243-62F64C17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569-A781-4B9A-A626-114F53E4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C71-46EE-461C-ABDC-FC51C2EB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319-2FA3-4138-AD69-87402F6B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5F9E-A14D-4071-BD65-F278ADDB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E63-7C70-4F81-ADE4-3DB441B7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29F9-3C23-4CA7-A0E7-06E241B8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BCF2-CEA3-4EE5-889B-D185CA8C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07E-81A8-45D7-9E79-232ABE70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5A5-13CB-4D3A-A164-19DE284B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E2B-0290-4800-B9B5-A0EB6132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CD9C-B23B-4D83-9680-009D5DF1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E6F9-C547-4DBC-A4C2-B64B72EEB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s and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vasive species can cause the extinction of native speci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5334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 humans an invasive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rhino"/>
          <p:cNvPicPr/>
          <p:nvPr/>
        </p:nvPicPr>
        <p:blipFill>
          <a:blip r:embed="rId1"/>
          <a:stretch/>
        </p:blipFill>
        <p:spPr>
          <a:xfrm>
            <a:off x="2971800" y="1600200"/>
            <a:ext cx="295272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affects population siz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90720" y="1371600"/>
            <a:ext cx="2590560" cy="2971800"/>
            <a:chOff x="990720" y="1371600"/>
            <a:chExt cx="2590560" cy="29718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990720" y="1371600"/>
              <a:ext cx="2590560" cy="22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279440" y="3733920"/>
              <a:ext cx="1638360" cy="609480"/>
            </a:xfrm>
            <a:prstGeom prst="borderCallout1">
              <a:avLst>
                <a:gd name="adj1" fmla="val 22605"/>
                <a:gd name="adj2" fmla="val -1575"/>
                <a:gd name="adj3" fmla="val 22605"/>
                <a:gd name="adj4" fmla="val 1755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o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34120" y="1371600"/>
            <a:ext cx="2895480" cy="2895480"/>
            <a:chOff x="5334120" y="1371600"/>
            <a:chExt cx="2895480" cy="289548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34120" y="1371600"/>
              <a:ext cx="2895480" cy="21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562720" y="3635280"/>
              <a:ext cx="2361960" cy="631800"/>
            </a:xfrm>
            <a:prstGeom prst="borderCallout1">
              <a:avLst>
                <a:gd name="adj1" fmla="val -595"/>
                <a:gd name="adj2" fmla="val -2605"/>
                <a:gd name="adj3" fmla="val 20555"/>
                <a:gd name="adj4" fmla="val -260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elte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200400" y="4495680"/>
            <a:ext cx="5448240" cy="2043360"/>
            <a:chOff x="3200400" y="4495680"/>
            <a:chExt cx="5448240" cy="20433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3200400" y="4495680"/>
              <a:ext cx="2971800" cy="20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286680" y="5246640"/>
              <a:ext cx="2361960" cy="631800"/>
            </a:xfrm>
            <a:prstGeom prst="borderCallout1">
              <a:avLst>
                <a:gd name="adj1" fmla="val -2627"/>
                <a:gd name="adj2" fmla="val -2605"/>
                <a:gd name="adj3" fmla="val 20555"/>
                <a:gd name="adj4" fmla="val -260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te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f resources were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nlimited,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opulations could increase exponentially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90720" y="2181240"/>
          <a:ext cx="7010280" cy="46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81240"/>
                    <a:ext cx="701028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nce resources are limited, population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abiliz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35200" y="1749600"/>
          <a:ext cx="7157880" cy="47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1749600"/>
                    <a:ext cx="7157880" cy="47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ents like a drought, famine, or epidemic can disrupt a stable popul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553080" y="2819520"/>
            <a:ext cx="225108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57200" y="1905120"/>
          <a:ext cx="563868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05120"/>
                    <a:ext cx="56386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541008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etitio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– by native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invasive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Purple loosestrife is just one of many invasive species affecting ecosystems in Wisconsin."/>
          <p:cNvPicPr/>
          <p:nvPr/>
        </p:nvPicPr>
        <p:blipFill>
          <a:blip r:embed="rId1"/>
          <a:stretch/>
        </p:blipFill>
        <p:spPr>
          <a:xfrm>
            <a:off x="4952880" y="1600200"/>
            <a:ext cx="249408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2405160" cy="3543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0492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pulation size is also affected by another fact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rple loosestrife is an invasive plant species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Purple loosestrife is just one of many invasive species affecting ecosystems in Wisconsin."/>
          <p:cNvPicPr/>
          <p:nvPr/>
        </p:nvPicPr>
        <p:blipFill>
          <a:blip r:embed="rId1"/>
          <a:stretch/>
        </p:blipFill>
        <p:spPr>
          <a:xfrm>
            <a:off x="4952880" y="1600200"/>
            <a:ext cx="249408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2405160" cy="3543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518148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t competes with native species in wetlands – and usually wi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ebra mussels came to the US from Russia by shi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closeup of zebra mussels on stick"/>
          <p:cNvPicPr/>
          <p:nvPr/>
        </p:nvPicPr>
        <p:blipFill>
          <a:blip r:embed="rId1"/>
          <a:stretch/>
        </p:blipFill>
        <p:spPr>
          <a:xfrm>
            <a:off x="1438200" y="1752480"/>
            <a:ext cx="2908440" cy="4648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crayfish covered with zebra mussels"/>
          <p:cNvPicPr/>
          <p:nvPr/>
        </p:nvPicPr>
        <p:blipFill>
          <a:blip r:embed="rId2"/>
          <a:stretch/>
        </p:blipFill>
        <p:spPr>
          <a:xfrm>
            <a:off x="5181480" y="1752480"/>
            <a:ext cx="2865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attach to almost anything and eat all the small organis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closeup of zebra mussels on stick"/>
          <p:cNvPicPr/>
          <p:nvPr/>
        </p:nvPicPr>
        <p:blipFill>
          <a:blip r:embed="rId1"/>
          <a:stretch/>
        </p:blipFill>
        <p:spPr>
          <a:xfrm>
            <a:off x="1438200" y="1752480"/>
            <a:ext cx="290844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crayfish covered with zebra mussels"/>
          <p:cNvPicPr/>
          <p:nvPr/>
        </p:nvPicPr>
        <p:blipFill>
          <a:blip r:embed="rId2"/>
          <a:stretch/>
        </p:blipFill>
        <p:spPr>
          <a:xfrm>
            <a:off x="5181480" y="1752480"/>
            <a:ext cx="2865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2:14:22Z</dcterms:created>
  <dc:creator>Administrator</dc:creator>
  <dc:description/>
  <dc:language>en-US</dc:language>
  <cp:lastModifiedBy>Administrator</cp:lastModifiedBy>
  <dcterms:modified xsi:type="dcterms:W3CDTF">2008-09-23T12:14:53Z</dcterms:modified>
  <cp:revision>1</cp:revision>
  <dc:subject/>
  <dc:title>Populations and Competition</dc:title>
</cp:coreProperties>
</file>